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A2D9-3BF4-4544-A356-C04875020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67A8-D39B-4566-9C25-11F5307A8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99F0-338A-4DA7-9517-7A2ED8C02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05D9-43D6-4324-8DB6-1C347B7AD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ECC4-8D63-4219-B7B6-4832042CE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9261-9AAD-49DC-8C59-30EE50EC4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3D28-5E28-42CB-AE53-0C50D6DA3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CC61-DE54-4D1C-9AE9-7E45725C1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065F-564D-421D-8ADB-01030B14F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34ED-CE32-42C9-8E95-178BAB4D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CB2E-2A0A-4FB4-9AC9-5EEF436D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927E-AD8C-4158-A25C-D1CAA2FC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0D092-8551-4860-9586-948BCC973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9360" y="3581280"/>
            <a:ext cx="177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2438280"/>
            <a:ext cx="777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 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ude SB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457200" y="3505320"/>
            <a:ext cx="182520" cy="182520"/>
            <a:chOff x="457200" y="3505320"/>
            <a:chExt cx="182520" cy="182520"/>
          </a:xfrm>
        </p:grpSpPr>
        <p:sp>
          <p:nvSpPr>
            <p:cNvPr id="44" name=""/>
            <p:cNvSpPr/>
            <p:nvPr/>
          </p:nvSpPr>
          <p:spPr>
            <a:xfrm>
              <a:off x="457200" y="350532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rot="5400000">
              <a:off x="491400" y="353160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685800" y="358128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17440" y="34290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1193760" y="3504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1346040" y="3504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93760" y="35053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270080" y="350496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7080" y="36576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22360" y="3581280"/>
            <a:ext cx="1981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164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75960" y="1905120"/>
            <a:ext cx="355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20" y="1905120"/>
            <a:ext cx="4917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03240" y="2057400"/>
            <a:ext cx="6098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0816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55880" y="30481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55880" y="3124080"/>
            <a:ext cx="228600" cy="15264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36760" y="3809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0816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19240" y="205740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% Citr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id 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35880" y="31240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2819520"/>
            <a:ext cx="9144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6064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60640" y="3581280"/>
            <a:ext cx="3049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56080" y="3581280"/>
            <a:ext cx="3045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60640" y="3276720"/>
            <a:ext cx="3049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56080" y="3276720"/>
            <a:ext cx="3045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41680" y="1371600"/>
            <a:ext cx="6094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70480" y="1371600"/>
            <a:ext cx="6094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793960" y="23623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793960" y="2438280"/>
            <a:ext cx="228600" cy="15264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22760" y="23623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22760" y="2438280"/>
            <a:ext cx="228600" cy="15264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46240" y="2209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775040" y="2209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94624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946240" y="2895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7504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317840" y="2895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946240" y="2362320"/>
            <a:ext cx="482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800600" y="2286000"/>
            <a:ext cx="482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31840" y="1371600"/>
            <a:ext cx="7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% NaO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003640" y="1371600"/>
            <a:ext cx="8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% Enzy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rigera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156280" y="3200400"/>
            <a:ext cx="6094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17840" y="3581280"/>
            <a:ext cx="177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495680" y="3505320"/>
            <a:ext cx="182520" cy="182520"/>
            <a:chOff x="4495680" y="3505320"/>
            <a:chExt cx="182520" cy="182520"/>
          </a:xfrm>
        </p:grpSpPr>
        <p:sp>
          <p:nvSpPr>
            <p:cNvPr id="90" name=""/>
            <p:cNvSpPr/>
            <p:nvPr/>
          </p:nvSpPr>
          <p:spPr>
            <a:xfrm>
              <a:off x="4495680" y="350532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rot="5400000">
              <a:off x="4529880" y="353160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48320" y="3581280"/>
            <a:ext cx="507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6084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232240" y="37339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460840" y="37339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89440" y="2895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257440" y="28954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84000" y="2895480"/>
            <a:ext cx="4917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746840" y="4343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7823160" y="4419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7975440" y="4419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823160" y="44197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7899480" y="441936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765760" y="3581280"/>
            <a:ext cx="177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5943600" y="3505320"/>
            <a:ext cx="182520" cy="182520"/>
            <a:chOff x="5943600" y="3505320"/>
            <a:chExt cx="182520" cy="182520"/>
          </a:xfrm>
        </p:grpSpPr>
        <p:sp>
          <p:nvSpPr>
            <p:cNvPr id="106" name=""/>
            <p:cNvSpPr/>
            <p:nvPr/>
          </p:nvSpPr>
          <p:spPr>
            <a:xfrm>
              <a:off x="5943600" y="350532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5400000">
              <a:off x="5977800" y="353160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6095880" y="3581280"/>
            <a:ext cx="507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908760" y="35812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289640" y="35812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908040" y="4419720"/>
            <a:ext cx="742320" cy="765360"/>
            <a:chOff x="6908040" y="4419720"/>
            <a:chExt cx="742320" cy="765360"/>
          </a:xfrm>
        </p:grpSpPr>
        <p:sp>
          <p:nvSpPr>
            <p:cNvPr id="112" name=""/>
            <p:cNvSpPr/>
            <p:nvPr/>
          </p:nvSpPr>
          <p:spPr>
            <a:xfrm>
              <a:off x="7230960" y="4419720"/>
              <a:ext cx="91080" cy="76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/>
            <p:nvPr/>
          </p:nvCxnSpPr>
          <p:spPr>
            <a:xfrm flipH="1">
              <a:off x="6908040" y="460224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4" name=""/>
            <p:cNvCxnSpPr/>
            <p:nvPr/>
          </p:nvCxnSpPr>
          <p:spPr>
            <a:xfrm flipH="1" flipV="1">
              <a:off x="7321680" y="461088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5" name=""/>
            <p:cNvCxnSpPr/>
            <p:nvPr/>
          </p:nvCxnSpPr>
          <p:spPr>
            <a:xfrm flipH="1" flipV="1">
              <a:off x="7321680" y="468684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6" name=""/>
            <p:cNvCxnSpPr/>
            <p:nvPr/>
          </p:nvCxnSpPr>
          <p:spPr>
            <a:xfrm flipH="1" flipV="1">
              <a:off x="7321680" y="476820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7" name=""/>
            <p:cNvCxnSpPr/>
            <p:nvPr/>
          </p:nvCxnSpPr>
          <p:spPr>
            <a:xfrm flipH="1" flipV="1">
              <a:off x="7321680" y="483624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8" name=""/>
            <p:cNvCxnSpPr/>
            <p:nvPr/>
          </p:nvCxnSpPr>
          <p:spPr>
            <a:xfrm flipH="1" flipV="1">
              <a:off x="7321680" y="491724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9" name=""/>
            <p:cNvCxnSpPr/>
            <p:nvPr/>
          </p:nvCxnSpPr>
          <p:spPr>
            <a:xfrm flipH="1">
              <a:off x="6908040" y="467856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0" name=""/>
            <p:cNvCxnSpPr/>
            <p:nvPr/>
          </p:nvCxnSpPr>
          <p:spPr>
            <a:xfrm flipH="1">
              <a:off x="6908040" y="475956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1" name=""/>
            <p:cNvCxnSpPr/>
            <p:nvPr/>
          </p:nvCxnSpPr>
          <p:spPr>
            <a:xfrm flipH="1">
              <a:off x="6908400" y="483660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2" name=""/>
            <p:cNvCxnSpPr/>
            <p:nvPr/>
          </p:nvCxnSpPr>
          <p:spPr>
            <a:xfrm flipH="1">
              <a:off x="6908400" y="491760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3" name=""/>
            <p:cNvCxnSpPr/>
            <p:nvPr/>
          </p:nvCxnSpPr>
          <p:spPr>
            <a:xfrm>
              <a:off x="6909120" y="5184360"/>
              <a:ext cx="741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4" name=""/>
            <p:cNvCxnSpPr/>
            <p:nvPr/>
          </p:nvCxnSpPr>
          <p:spPr>
            <a:xfrm>
              <a:off x="6908400" y="4759560"/>
              <a:ext cx="1080" cy="42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5" name=""/>
            <p:cNvCxnSpPr/>
            <p:nvPr/>
          </p:nvCxnSpPr>
          <p:spPr>
            <a:xfrm>
              <a:off x="7649280" y="4759560"/>
              <a:ext cx="1080" cy="42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126" name=""/>
          <p:cNvSpPr/>
          <p:nvPr/>
        </p:nvSpPr>
        <p:spPr>
          <a:xfrm flipH="1">
            <a:off x="6299280" y="4495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995080" y="4267080"/>
            <a:ext cx="753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LO - Gu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83080" y="251460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t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act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45560" y="36576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93480" y="32767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00880" y="2971800"/>
            <a:ext cx="45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r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534520" y="4038480"/>
            <a:ext cx="60948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83908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610480" y="4572000"/>
            <a:ext cx="22860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839080" y="4572000"/>
            <a:ext cx="22860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315200" y="449568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68680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8305560" y="3733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232120" y="3733920"/>
            <a:ext cx="4917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434800" y="4952880"/>
            <a:ext cx="70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gumm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B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68480" y="3200400"/>
            <a:ext cx="412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X-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98240" y="411480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R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17720" y="4191120"/>
            <a:ext cx="372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209680"/>
            <a:ext cx="60948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2362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6320" y="2743200"/>
            <a:ext cx="22860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2743200"/>
            <a:ext cx="22860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077320" y="44956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29400" y="34290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705720" y="3504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6858000" y="3504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705720" y="35053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6781680" y="35049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85800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54880" y="3200400"/>
            <a:ext cx="412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X-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3657600" y="38098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4114800" y="38098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365760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89120" y="5181480"/>
            <a:ext cx="48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nt-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65760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11480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1371600" y="3657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3733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8001000" y="4571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848720" y="4648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43000" y="3886200"/>
            <a:ext cx="15228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99036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3886200"/>
            <a:ext cx="76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23880" y="3581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837720" y="4495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3962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838080" y="39625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43434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629400" y="3809880"/>
            <a:ext cx="152280" cy="15264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6324480" y="4191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476760" y="3886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00800" y="3809880"/>
            <a:ext cx="7632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324480" y="38862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3886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934320" y="40384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772400" y="4952880"/>
            <a:ext cx="152280" cy="15264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848720" y="5029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077320" y="4952880"/>
            <a:ext cx="7596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153280" y="50292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229600" y="4495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153280" y="46483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16200000">
            <a:off x="152280" y="1828080"/>
            <a:ext cx="152280" cy="15264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16200000">
            <a:off x="5410080" y="2818800"/>
            <a:ext cx="152280" cy="15264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16200000">
            <a:off x="8381880" y="3656880"/>
            <a:ext cx="152280" cy="15264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28600" y="1676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5486400" y="2666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8458200" y="3504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52280" y="1600200"/>
            <a:ext cx="152640" cy="1522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381880" y="3429000"/>
            <a:ext cx="152640" cy="1522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410080" y="2590920"/>
            <a:ext cx="152640" cy="1522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28600" y="15238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28600" y="1523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15238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14479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791320" y="32767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486400" y="2514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486400" y="2514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5867280" y="25142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715000" y="2438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8839080" y="3352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8458200" y="33526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458200" y="3352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534520" y="32004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581280" y="4038480"/>
            <a:ext cx="152640" cy="15264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342864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352680" y="4038480"/>
            <a:ext cx="7632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3276360" y="41148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27636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276720" y="3809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124080" y="37339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2590560" y="3200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666880" y="30481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H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04920" y="304812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33520" y="3276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3520" y="3276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3808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837720" y="3124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52480" y="3124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62120" y="32004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30481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86200" y="3124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0" y="3124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4266720" y="3352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0481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495680" y="2438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4495680" y="24382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23623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800600" y="2819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510552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4800240" y="2514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52880" y="25146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886200" y="3505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191120" y="3429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0" y="3429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038480" y="33526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327636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276720" y="31237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76720" y="3124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24080" y="3276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124080" y="3276720"/>
            <a:ext cx="21924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59092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895480" y="2666880"/>
            <a:ext cx="152640" cy="15264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274284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666880" y="2666880"/>
            <a:ext cx="7632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590560" y="27432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523880" y="6019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609480" y="2057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5181480" y="30477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8991720" y="38858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534520" y="3733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638680" y="39625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6019920" y="3657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867280" y="38098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76320" y="2209680"/>
            <a:ext cx="60948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2362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2280" y="2743200"/>
            <a:ext cx="22860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80880" y="2743200"/>
            <a:ext cx="22860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228240" y="1905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520" y="1905120"/>
            <a:ext cx="4917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11640" y="2286000"/>
            <a:ext cx="70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gumm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B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0880" y="3048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335268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457200" y="3276720"/>
            <a:ext cx="182520" cy="182520"/>
            <a:chOff x="457200" y="3276720"/>
            <a:chExt cx="182520" cy="182520"/>
          </a:xfrm>
        </p:grpSpPr>
        <p:sp>
          <p:nvSpPr>
            <p:cNvPr id="271" name=""/>
            <p:cNvSpPr/>
            <p:nvPr/>
          </p:nvSpPr>
          <p:spPr>
            <a:xfrm>
              <a:off x="457200" y="327672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5400000">
              <a:off x="491400" y="330300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1041480" y="32004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1117440" y="3276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1270080" y="3276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117440" y="32767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1193760" y="32763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87600" y="3352680"/>
            <a:ext cx="412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X-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09480" y="33526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371600" y="335268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209680" y="3048120"/>
            <a:ext cx="304920" cy="6094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3623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09680" y="3505320"/>
            <a:ext cx="15264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362320" y="3505320"/>
            <a:ext cx="15228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523880" y="1600200"/>
            <a:ext cx="6098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14760" y="1600200"/>
            <a:ext cx="64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% Citr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752480" y="25909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52480" y="2666880"/>
            <a:ext cx="228600" cy="15264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828800" y="2438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828800" y="2819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07080" y="34290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907280" y="25909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2590920" y="3276720"/>
            <a:ext cx="182520" cy="182520"/>
            <a:chOff x="2590920" y="3276720"/>
            <a:chExt cx="182520" cy="182520"/>
          </a:xfrm>
        </p:grpSpPr>
        <p:sp>
          <p:nvSpPr>
            <p:cNvPr id="294" name=""/>
            <p:cNvSpPr/>
            <p:nvPr/>
          </p:nvSpPr>
          <p:spPr>
            <a:xfrm>
              <a:off x="2590920" y="327672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2625120" y="330300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2514600" y="335268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33526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124080" y="3048120"/>
            <a:ext cx="304920" cy="6094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2767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124080" y="3505320"/>
            <a:ext cx="15264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276720" y="3505320"/>
            <a:ext cx="15228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200400" y="22860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35268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505320" y="1371600"/>
            <a:ext cx="6094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495680" y="1828800"/>
            <a:ext cx="6098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1371600"/>
            <a:ext cx="533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209680" y="1828800"/>
            <a:ext cx="685800" cy="380880"/>
          </a:xfrm>
          <a:prstGeom prst="flowChartMer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38280" y="2133720"/>
            <a:ext cx="8384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438280" y="22096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2438280" y="213336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514600" y="213372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2590920" y="213336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666880" y="213372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2743200" y="213336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19520" y="213372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2895480" y="213336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213372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048120" y="213336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124080" y="213372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3200400" y="213336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44280" y="1066680"/>
            <a:ext cx="64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iva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y T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09880" y="2209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440440" y="34290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733920" y="23623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733920" y="2438280"/>
            <a:ext cx="228600" cy="15264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8098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335268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888360" y="23623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092120" y="1219320"/>
            <a:ext cx="53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429000" y="335268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3581280" y="3276720"/>
            <a:ext cx="182520" cy="182520"/>
            <a:chOff x="3581280" y="3276720"/>
            <a:chExt cx="182520" cy="182520"/>
          </a:xfrm>
        </p:grpSpPr>
        <p:sp>
          <p:nvSpPr>
            <p:cNvPr id="332" name=""/>
            <p:cNvSpPr/>
            <p:nvPr/>
          </p:nvSpPr>
          <p:spPr>
            <a:xfrm>
              <a:off x="3581280" y="327672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5400000">
              <a:off x="3615480" y="330300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3733920" y="33526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191120" y="32004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4266720" y="34290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266720" y="32767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267080" y="327672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4267080" y="335268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4343400" y="2209680"/>
            <a:ext cx="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0968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800600" y="1981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572000" y="23623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800600" y="23623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800600" y="26668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724280" y="28954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724280" y="2971800"/>
            <a:ext cx="228600" cy="15228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8006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4495320" y="3276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495680" y="342900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5105160" y="25146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483080" y="2502000"/>
            <a:ext cx="622440" cy="101520"/>
          </a:xfrm>
          <a:custGeom>
            <a:avLst/>
            <a:gdLst/>
            <a:ahLst/>
            <a:rect l="l" t="t" r="r" b="b"/>
            <a:pathLst>
              <a:path w="392" h="64">
                <a:moveTo>
                  <a:pt x="392" y="8"/>
                </a:moveTo>
                <a:cubicBezTo>
                  <a:pt x="252" y="4"/>
                  <a:pt x="112" y="0"/>
                  <a:pt x="56" y="8"/>
                </a:cubicBezTo>
                <a:cubicBezTo>
                  <a:pt x="0" y="16"/>
                  <a:pt x="0" y="48"/>
                  <a:pt x="56" y="56"/>
                </a:cubicBezTo>
                <a:cubicBezTo>
                  <a:pt x="112" y="64"/>
                  <a:pt x="336" y="56"/>
                  <a:pt x="392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10552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876920" y="160020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4952880" y="1676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029200" y="1066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431160" y="34290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888000" y="3048120"/>
            <a:ext cx="412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X-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879080" y="28954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573440" y="1447920"/>
            <a:ext cx="407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P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030640" y="1905120"/>
            <a:ext cx="55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105520" y="33526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486400" y="3276720"/>
            <a:ext cx="76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029200" y="3276720"/>
            <a:ext cx="76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4800240" y="35812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800600" y="35812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41008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267080" y="4114800"/>
            <a:ext cx="6098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572000" y="4267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343400" y="46483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572000" y="46483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34340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396252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888720" y="3886200"/>
            <a:ext cx="4917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812040" y="4191120"/>
            <a:ext cx="45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r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572000" y="49528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495680" y="5105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495680" y="5181480"/>
            <a:ext cx="228600" cy="15264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72000" y="5334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650480" y="51055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572000" y="563868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019920" y="54864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095520" y="57150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6095520" y="55627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095880" y="556272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6095880" y="563868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6172200" y="3428640"/>
            <a:ext cx="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019920" y="312408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60955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6095520" y="3200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095880" y="32004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6095880" y="32763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324480" y="32004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324480" y="3352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6172200" y="2362320"/>
            <a:ext cx="0" cy="761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010280" y="2133720"/>
            <a:ext cx="914400" cy="19047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904760"/>
              <a:gd name="textAreaBottom" fmla="*/ 1860120 h 1904760"/>
            </a:gdLst>
            <a:ahLst/>
            <a:rect l="textAreaLeft" t="textAreaTop" r="textAreaRight" b="textAreaBottom"/>
            <a:pathLst>
              <a:path w="21600" h="44985">
                <a:moveTo>
                  <a:pt x="3600" y="0"/>
                </a:moveTo>
                <a:arcTo wR="3600" hR="3600" stAng="16200000" swAng="-5400000"/>
                <a:lnTo>
                  <a:pt x="0" y="41385"/>
                </a:lnTo>
                <a:arcTo wR="3600" hR="3600" stAng="10800000" swAng="-5400000"/>
                <a:lnTo>
                  <a:pt x="18000" y="449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172200" y="236232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086600" y="2438280"/>
            <a:ext cx="7621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7086600" y="2590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 flipV="1">
            <a:off x="7162560" y="25146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7238880" y="2514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91520" y="25146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7467480" y="2514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620120" y="25146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7696080" y="2514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086600" y="2819520"/>
            <a:ext cx="7621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7086600" y="2971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 flipV="1">
            <a:off x="7162560" y="28954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7238880" y="28954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391520" y="28954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7467480" y="28954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620120" y="28954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7696080" y="28954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086600" y="3200400"/>
            <a:ext cx="7621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70866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H="1" flipV="1">
            <a:off x="7162560" y="327636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7238880" y="32763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391520" y="32767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7467480" y="32763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620120" y="32767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7696080" y="32763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086600" y="3581280"/>
            <a:ext cx="7621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70866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 flipV="1">
            <a:off x="7162560" y="36576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7238880" y="3657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391520" y="36576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7467480" y="3657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620120" y="36576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7696080" y="3657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048120" y="36576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X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134800" y="365760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X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7924680" y="2590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7924680" y="2971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7924680" y="3733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7924680" y="3352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7240320" y="1752480"/>
            <a:ext cx="407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P-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924680" y="2286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8381880" y="259056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391520" y="3886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924680" y="38862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077320" y="3886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8383320" y="3886200"/>
            <a:ext cx="476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838188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8305920" y="21337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838188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853452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H="1" flipV="1">
            <a:off x="8458200" y="22860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H="1">
            <a:off x="8381880" y="22860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8610480" y="2286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8534520" y="1905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8381880" y="1523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8155080" y="4267080"/>
            <a:ext cx="68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MX-1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8077320" y="4495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467480" y="40384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391520" y="44956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391520" y="4572000"/>
            <a:ext cx="228600" cy="15228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545960" y="44956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6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467480" y="47242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6324120" y="556272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324480" y="57150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696080" y="55627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772400" y="5562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924680" y="5562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H="1" flipV="1">
            <a:off x="7848360" y="57150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7772400" y="57150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7924680" y="5334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777240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8001000" y="571500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8534520" y="5181480"/>
            <a:ext cx="60948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839080" y="533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8610480" y="5715000"/>
            <a:ext cx="22860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839080" y="5715000"/>
            <a:ext cx="22860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8686800" y="4876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8305920" y="4876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8232120" y="4876920"/>
            <a:ext cx="4917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8460720" y="6019920"/>
            <a:ext cx="53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i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B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945760" y="5791320"/>
            <a:ext cx="46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X-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640840" y="2971800"/>
            <a:ext cx="46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X-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8536680" y="228600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R-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622280" y="586728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R-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106240" y="3124080"/>
            <a:ext cx="407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707160" y="1828800"/>
            <a:ext cx="55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ss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705720" y="57150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6934320" y="57150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934320" y="571500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440080" y="2286000"/>
            <a:ext cx="412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P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1295280" y="34290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143000" y="3505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066680" y="3657600"/>
            <a:ext cx="15264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914040" y="3733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838080" y="3657600"/>
            <a:ext cx="76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761760" y="37339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447920" y="33526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H="1">
            <a:off x="761760" y="4114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76212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838080" y="3962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rot="16200000">
            <a:off x="5334120" y="2514240"/>
            <a:ext cx="15228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4100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334120" y="274320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H="1">
            <a:off x="4952520" y="28195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029200" y="26668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4952880" y="2590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6477120" y="3276360"/>
            <a:ext cx="15228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6553080" y="312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477120" y="3048120"/>
            <a:ext cx="15228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6553080" y="2971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6172200" y="2971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248520" y="2819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8305920" y="1676520"/>
            <a:ext cx="15228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8381880" y="1752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8610480" y="1676520"/>
            <a:ext cx="76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696080" y="5181480"/>
            <a:ext cx="152640" cy="15264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772400" y="5257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8001000" y="5181480"/>
            <a:ext cx="7632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8077320" y="52578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8153280" y="5257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8077320" y="53341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8686800" y="17524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8763120" y="1752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8686800" y="18288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rot="16200000">
            <a:off x="4038480" y="3809880"/>
            <a:ext cx="152640" cy="15264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4114800" y="3733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038480" y="3657600"/>
            <a:ext cx="152640" cy="1522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4114800" y="35812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114800" y="3581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495680" y="3581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343400" y="35053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rot="16200000">
            <a:off x="228600" y="1828440"/>
            <a:ext cx="15228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304920" y="1752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28600" y="1676520"/>
            <a:ext cx="152280" cy="1522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rot="16200000">
            <a:off x="8305920" y="4800240"/>
            <a:ext cx="15228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8381880" y="4724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8305920" y="4648320"/>
            <a:ext cx="152280" cy="1522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304920" y="1600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8381880" y="4572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8381880" y="4572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8839080" y="4572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609480" y="1599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304920" y="16002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57200" y="14479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8686800" y="44956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5105520" y="19051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410080" y="1676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7848360" y="2209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8077320" y="1981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334120" y="1676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8001000" y="19810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124080" y="2590920"/>
            <a:ext cx="15264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3047760" y="2666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971800" y="2590920"/>
            <a:ext cx="76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H="1">
            <a:off x="2895480" y="26668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895480" y="26668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819520" y="2819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rot="16200000">
            <a:off x="3581280" y="2666880"/>
            <a:ext cx="152640" cy="15264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657600" y="274320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581280" y="2895480"/>
            <a:ext cx="15264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2971440" y="2971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rot="16200000">
            <a:off x="8153280" y="2513880"/>
            <a:ext cx="152280" cy="15264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8229600" y="2514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8153280" y="2438280"/>
            <a:ext cx="15264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rot="16200000">
            <a:off x="8153280" y="2895480"/>
            <a:ext cx="152640" cy="15264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8229600" y="28954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8153280" y="2819520"/>
            <a:ext cx="15264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rot="16200000">
            <a:off x="8153280" y="3276000"/>
            <a:ext cx="152280" cy="15264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8229600" y="327636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8153280" y="3200400"/>
            <a:ext cx="15264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rot="16200000">
            <a:off x="8153280" y="3656880"/>
            <a:ext cx="152280" cy="15264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8229600" y="3657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8153280" y="3581280"/>
            <a:ext cx="15264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830556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8305560" y="3276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8305560" y="2895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830556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4648320" y="3962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8991720" y="50288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685800" y="2057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478560" y="6095880"/>
            <a:ext cx="7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Vacu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371600" y="2743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533520" y="2971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57200" y="30481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8380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838080" y="3048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1371600" y="2742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295280" y="26668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4952880" y="1295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4952880" y="1447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952880" y="12952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5029200" y="1447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952880" y="1752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029200" y="1523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18148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7543800" y="19051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7620120" y="1981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7696080" y="13712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7619760" y="1600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7620120" y="1752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7620120" y="16002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7696080" y="1752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7620120" y="2057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696080" y="1828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848720" y="1828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105520" y="1523880"/>
            <a:ext cx="152280" cy="15264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181480" y="16002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rot="5400000">
            <a:off x="5257080" y="1523880"/>
            <a:ext cx="152640" cy="1522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7772400" y="1828800"/>
            <a:ext cx="15228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7848720" y="1905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rot="5400000">
            <a:off x="7924680" y="1828440"/>
            <a:ext cx="152280" cy="1526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858000" y="23623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6858000" y="41148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8229600" y="3885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8229600" y="3886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8534520" y="25146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8458200" y="36576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238880" y="3962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238880" y="46483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7086600" y="43434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343400" y="4876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343400" y="5181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191120" y="50292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8076960" y="358128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8077320" y="3581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H="1">
            <a:off x="8076960" y="32004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8077320" y="3200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8076960" y="28195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8077320" y="2819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8076960" y="243828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8077320" y="2438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/>
          <p:nvPr/>
        </p:nvSpPr>
        <p:spPr>
          <a:xfrm>
            <a:off x="762120" y="4343400"/>
            <a:ext cx="6094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066680" y="4495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838080" y="48769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066680" y="48769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914400" y="4038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flipH="1">
            <a:off x="533520" y="4038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59720" y="4038480"/>
            <a:ext cx="4917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31120" y="4343400"/>
            <a:ext cx="53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i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B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76320" y="685800"/>
            <a:ext cx="6094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57200" y="380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76320" y="380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2520" y="380880"/>
            <a:ext cx="4917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88320" y="685800"/>
            <a:ext cx="53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B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rdf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80880" y="838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52280" y="12193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80880" y="12193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295280" y="1676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62120" y="2286000"/>
            <a:ext cx="6094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066680" y="2438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838080" y="28195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066680" y="28195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838080" y="2057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457200" y="2057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07440" y="2057400"/>
            <a:ext cx="4917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31120" y="2286000"/>
            <a:ext cx="5313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B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rdf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a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762120" y="2971800"/>
            <a:ext cx="622080" cy="101520"/>
          </a:xfrm>
          <a:custGeom>
            <a:avLst/>
            <a:gdLst/>
            <a:ahLst/>
            <a:rect l="l" t="t" r="r" b="b"/>
            <a:pathLst>
              <a:path w="392" h="64">
                <a:moveTo>
                  <a:pt x="392" y="8"/>
                </a:moveTo>
                <a:cubicBezTo>
                  <a:pt x="252" y="4"/>
                  <a:pt x="112" y="0"/>
                  <a:pt x="56" y="8"/>
                </a:cubicBezTo>
                <a:cubicBezTo>
                  <a:pt x="0" y="16"/>
                  <a:pt x="0" y="48"/>
                  <a:pt x="56" y="56"/>
                </a:cubicBezTo>
                <a:cubicBezTo>
                  <a:pt x="112" y="64"/>
                  <a:pt x="336" y="56"/>
                  <a:pt x="392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flipH="1">
            <a:off x="137124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371600" y="3048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066680" y="31240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1066680" y="51814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990720" y="33526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990720" y="3429000"/>
            <a:ext cx="228600" cy="15228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990720" y="54100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990720" y="5486400"/>
            <a:ext cx="228600" cy="15228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066680" y="35812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066680" y="56386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066680" y="579132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066680" y="373392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600200" y="35812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1676520" y="36572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 flipV="1">
            <a:off x="1828800" y="36572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676520" y="36576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1752480" y="3657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1828800" y="3885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676520" y="3886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600200" y="56386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1676520" y="571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1828800" y="571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676520" y="57150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1752480" y="57150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 flipV="1">
            <a:off x="1828800" y="59432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1676520" y="5943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905120" y="373392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1905120" y="579132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11640" y="33526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6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11640" y="54100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6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1526040" y="3352680"/>
            <a:ext cx="46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X-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1526040" y="5410080"/>
            <a:ext cx="46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X-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666880" y="3886200"/>
            <a:ext cx="121932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276720" y="42670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743200" y="5181480"/>
            <a:ext cx="5335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276720" y="5181480"/>
            <a:ext cx="5331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276720" y="4724280"/>
            <a:ext cx="5331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743200" y="4724280"/>
            <a:ext cx="5335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2438280" y="42670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2438280" y="42670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438280" y="37339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438280" y="2286000"/>
            <a:ext cx="6098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438280" y="40384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641680" y="5321160"/>
            <a:ext cx="1244520" cy="101880"/>
          </a:xfrm>
          <a:custGeom>
            <a:avLst/>
            <a:gdLst/>
            <a:ahLst/>
            <a:rect l="l" t="t" r="r" b="b"/>
            <a:pathLst>
              <a:path w="784" h="64">
                <a:moveTo>
                  <a:pt x="784" y="8"/>
                </a:moveTo>
                <a:cubicBezTo>
                  <a:pt x="504" y="4"/>
                  <a:pt x="224" y="0"/>
                  <a:pt x="112" y="8"/>
                </a:cubicBezTo>
                <a:cubicBezTo>
                  <a:pt x="0" y="16"/>
                  <a:pt x="0" y="48"/>
                  <a:pt x="112" y="56"/>
                </a:cubicBezTo>
                <a:cubicBezTo>
                  <a:pt x="224" y="64"/>
                  <a:pt x="672" y="56"/>
                  <a:pt x="784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885840" y="5334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886200" y="5410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666880" y="3276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2666880" y="3352680"/>
            <a:ext cx="228600" cy="15264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7432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743200" y="3505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364480" y="31240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6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891800" y="2362320"/>
            <a:ext cx="56916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6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124080" y="2286000"/>
            <a:ext cx="6098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352680" y="3276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352680" y="3352680"/>
            <a:ext cx="228600" cy="15264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4290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429000" y="3505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3886920" y="4114800"/>
            <a:ext cx="4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6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x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3431160" y="31240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6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27672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3200400" y="56386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200400" y="5715000"/>
            <a:ext cx="228600" cy="15228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3886200" y="59436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267080" y="5867280"/>
            <a:ext cx="76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3809880" y="5867280"/>
            <a:ext cx="76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276720" y="5867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276720" y="60199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4191120" y="5638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3352680" y="6172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352680" y="6172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3352680" y="65530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flipV="1">
            <a:off x="4648320" y="320004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648320" y="3200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952880" y="2895480"/>
            <a:ext cx="304920" cy="60984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510552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952880" y="3352680"/>
            <a:ext cx="15264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5105520" y="3352680"/>
            <a:ext cx="15228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354840" y="57150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886920" y="6248520"/>
            <a:ext cx="407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791320" y="304920"/>
            <a:ext cx="6094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095880" y="1143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601992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6019920" y="1371600"/>
            <a:ext cx="228600" cy="15228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60958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5943600" y="19051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flipH="1">
            <a:off x="601956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 flipH="1">
            <a:off x="6019560" y="1981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019920" y="19810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6019920" y="20574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flipH="1">
            <a:off x="624816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248520" y="19810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09588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flipH="1">
            <a:off x="5105160" y="25909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5105520" y="2590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5485680" y="3962520"/>
            <a:ext cx="742320" cy="765360"/>
            <a:chOff x="5485680" y="3962520"/>
            <a:chExt cx="742320" cy="765360"/>
          </a:xfrm>
        </p:grpSpPr>
        <p:sp>
          <p:nvSpPr>
            <p:cNvPr id="749" name=""/>
            <p:cNvSpPr/>
            <p:nvPr/>
          </p:nvSpPr>
          <p:spPr>
            <a:xfrm>
              <a:off x="5808600" y="3962520"/>
              <a:ext cx="91080" cy="76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50" name=""/>
            <p:cNvCxnSpPr/>
            <p:nvPr/>
          </p:nvCxnSpPr>
          <p:spPr>
            <a:xfrm flipH="1">
              <a:off x="5485680" y="414504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51" name=""/>
            <p:cNvCxnSpPr/>
            <p:nvPr/>
          </p:nvCxnSpPr>
          <p:spPr>
            <a:xfrm flipH="1" flipV="1">
              <a:off x="5899320" y="415368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52" name=""/>
            <p:cNvCxnSpPr/>
            <p:nvPr/>
          </p:nvCxnSpPr>
          <p:spPr>
            <a:xfrm flipH="1" flipV="1">
              <a:off x="5899320" y="422964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53" name=""/>
            <p:cNvCxnSpPr/>
            <p:nvPr/>
          </p:nvCxnSpPr>
          <p:spPr>
            <a:xfrm flipH="1" flipV="1">
              <a:off x="5899320" y="431100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54" name=""/>
            <p:cNvCxnSpPr/>
            <p:nvPr/>
          </p:nvCxnSpPr>
          <p:spPr>
            <a:xfrm flipH="1" flipV="1">
              <a:off x="5899320" y="437904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55" name=""/>
            <p:cNvCxnSpPr/>
            <p:nvPr/>
          </p:nvCxnSpPr>
          <p:spPr>
            <a:xfrm flipH="1" flipV="1">
              <a:off x="5899320" y="446004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56" name=""/>
            <p:cNvCxnSpPr/>
            <p:nvPr/>
          </p:nvCxnSpPr>
          <p:spPr>
            <a:xfrm flipH="1">
              <a:off x="5485680" y="422136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57" name=""/>
            <p:cNvCxnSpPr/>
            <p:nvPr/>
          </p:nvCxnSpPr>
          <p:spPr>
            <a:xfrm flipH="1">
              <a:off x="5485680" y="430236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58" name=""/>
            <p:cNvCxnSpPr/>
            <p:nvPr/>
          </p:nvCxnSpPr>
          <p:spPr>
            <a:xfrm flipH="1">
              <a:off x="5486040" y="437940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59" name=""/>
            <p:cNvCxnSpPr/>
            <p:nvPr/>
          </p:nvCxnSpPr>
          <p:spPr>
            <a:xfrm flipH="1">
              <a:off x="5486040" y="446040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60" name=""/>
            <p:cNvCxnSpPr/>
            <p:nvPr/>
          </p:nvCxnSpPr>
          <p:spPr>
            <a:xfrm>
              <a:off x="5486760" y="4727160"/>
              <a:ext cx="741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61" name=""/>
            <p:cNvCxnSpPr/>
            <p:nvPr/>
          </p:nvCxnSpPr>
          <p:spPr>
            <a:xfrm>
              <a:off x="5486040" y="4302360"/>
              <a:ext cx="1080" cy="42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62" name=""/>
            <p:cNvCxnSpPr/>
            <p:nvPr/>
          </p:nvCxnSpPr>
          <p:spPr>
            <a:xfrm>
              <a:off x="6226920" y="4302360"/>
              <a:ext cx="1080" cy="42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763" name=""/>
          <p:cNvGrpSpPr/>
          <p:nvPr/>
        </p:nvGrpSpPr>
        <p:grpSpPr>
          <a:xfrm>
            <a:off x="7314480" y="3962520"/>
            <a:ext cx="742320" cy="765360"/>
            <a:chOff x="7314480" y="3962520"/>
            <a:chExt cx="742320" cy="765360"/>
          </a:xfrm>
        </p:grpSpPr>
        <p:sp>
          <p:nvSpPr>
            <p:cNvPr id="764" name=""/>
            <p:cNvSpPr/>
            <p:nvPr/>
          </p:nvSpPr>
          <p:spPr>
            <a:xfrm>
              <a:off x="7637400" y="3962520"/>
              <a:ext cx="91080" cy="76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65" name=""/>
            <p:cNvCxnSpPr/>
            <p:nvPr/>
          </p:nvCxnSpPr>
          <p:spPr>
            <a:xfrm flipH="1">
              <a:off x="7314480" y="414504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66" name=""/>
            <p:cNvCxnSpPr/>
            <p:nvPr/>
          </p:nvCxnSpPr>
          <p:spPr>
            <a:xfrm flipH="1" flipV="1">
              <a:off x="7728120" y="415368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67" name=""/>
            <p:cNvCxnSpPr/>
            <p:nvPr/>
          </p:nvCxnSpPr>
          <p:spPr>
            <a:xfrm flipH="1" flipV="1">
              <a:off x="7728120" y="422964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68" name=""/>
            <p:cNvCxnSpPr/>
            <p:nvPr/>
          </p:nvCxnSpPr>
          <p:spPr>
            <a:xfrm flipH="1" flipV="1">
              <a:off x="7728120" y="431100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69" name=""/>
            <p:cNvCxnSpPr/>
            <p:nvPr/>
          </p:nvCxnSpPr>
          <p:spPr>
            <a:xfrm flipH="1" flipV="1">
              <a:off x="7728120" y="437904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70" name=""/>
            <p:cNvCxnSpPr/>
            <p:nvPr/>
          </p:nvCxnSpPr>
          <p:spPr>
            <a:xfrm flipH="1" flipV="1">
              <a:off x="7728120" y="446004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71" name=""/>
            <p:cNvCxnSpPr/>
            <p:nvPr/>
          </p:nvCxnSpPr>
          <p:spPr>
            <a:xfrm flipH="1">
              <a:off x="7314480" y="422136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72" name=""/>
            <p:cNvCxnSpPr/>
            <p:nvPr/>
          </p:nvCxnSpPr>
          <p:spPr>
            <a:xfrm flipH="1">
              <a:off x="7314480" y="430236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73" name=""/>
            <p:cNvCxnSpPr/>
            <p:nvPr/>
          </p:nvCxnSpPr>
          <p:spPr>
            <a:xfrm flipH="1">
              <a:off x="7314840" y="437940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74" name=""/>
            <p:cNvCxnSpPr/>
            <p:nvPr/>
          </p:nvCxnSpPr>
          <p:spPr>
            <a:xfrm flipH="1">
              <a:off x="7314840" y="446040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75" name=""/>
            <p:cNvCxnSpPr/>
            <p:nvPr/>
          </p:nvCxnSpPr>
          <p:spPr>
            <a:xfrm>
              <a:off x="7315560" y="4727160"/>
              <a:ext cx="741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76" name=""/>
            <p:cNvCxnSpPr/>
            <p:nvPr/>
          </p:nvCxnSpPr>
          <p:spPr>
            <a:xfrm>
              <a:off x="7314840" y="4302360"/>
              <a:ext cx="1080" cy="42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77" name=""/>
            <p:cNvCxnSpPr/>
            <p:nvPr/>
          </p:nvCxnSpPr>
          <p:spPr>
            <a:xfrm>
              <a:off x="8055720" y="4302360"/>
              <a:ext cx="1080" cy="42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778" name=""/>
          <p:cNvSpPr/>
          <p:nvPr/>
        </p:nvSpPr>
        <p:spPr>
          <a:xfrm>
            <a:off x="6781680" y="2895480"/>
            <a:ext cx="304920" cy="60984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693432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781680" y="3352680"/>
            <a:ext cx="15264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934320" y="3352680"/>
            <a:ext cx="15228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10552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5257800" y="3581280"/>
            <a:ext cx="182520" cy="182520"/>
            <a:chOff x="5257800" y="3581280"/>
            <a:chExt cx="182520" cy="182520"/>
          </a:xfrm>
        </p:grpSpPr>
        <p:sp>
          <p:nvSpPr>
            <p:cNvPr id="784" name=""/>
            <p:cNvSpPr/>
            <p:nvPr/>
          </p:nvSpPr>
          <p:spPr>
            <a:xfrm>
              <a:off x="5257800" y="358128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 rot="5400000">
              <a:off x="5292000" y="360756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6" name=""/>
          <p:cNvSpPr/>
          <p:nvPr/>
        </p:nvSpPr>
        <p:spPr>
          <a:xfrm>
            <a:off x="5105520" y="36576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410080" y="3657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6934320" y="2590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6095880" y="25909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867280" y="36576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533412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867280" y="40384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flipV="1">
            <a:off x="6324480" y="320040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324480" y="3200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6934320" y="35053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6" name=""/>
          <p:cNvGrpSpPr/>
          <p:nvPr/>
        </p:nvGrpSpPr>
        <p:grpSpPr>
          <a:xfrm>
            <a:off x="7086600" y="3581280"/>
            <a:ext cx="182520" cy="182520"/>
            <a:chOff x="7086600" y="3581280"/>
            <a:chExt cx="182520" cy="182520"/>
          </a:xfrm>
        </p:grpSpPr>
        <p:sp>
          <p:nvSpPr>
            <p:cNvPr id="797" name=""/>
            <p:cNvSpPr/>
            <p:nvPr/>
          </p:nvSpPr>
          <p:spPr>
            <a:xfrm>
              <a:off x="7086600" y="358128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 rot="5400000">
              <a:off x="7120800" y="360756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9" name=""/>
          <p:cNvSpPr/>
          <p:nvPr/>
        </p:nvSpPr>
        <p:spPr>
          <a:xfrm>
            <a:off x="6934320" y="36576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7238880" y="3657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7696080" y="36576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6403320" y="380880"/>
            <a:ext cx="53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6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5488560" y="1905120"/>
            <a:ext cx="46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X-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5031360" y="3886200"/>
            <a:ext cx="38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6250680" y="12952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7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5107680" y="37339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7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6936480" y="37339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7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769608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079120" y="3886200"/>
            <a:ext cx="38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H="1">
            <a:off x="6781320" y="403848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470000" y="4724280"/>
            <a:ext cx="48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nt-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5641200" y="4724280"/>
            <a:ext cx="48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nt-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3734280" y="2362320"/>
            <a:ext cx="64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6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% Citr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781680" y="4038480"/>
            <a:ext cx="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7391520" y="59436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 flipV="1">
            <a:off x="7467480" y="6019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 flipV="1">
            <a:off x="7620120" y="6019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7467480" y="60199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flipV="1">
            <a:off x="7543800" y="60195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flipV="1">
            <a:off x="7620120" y="6248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7467480" y="6248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6781680" y="609588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7696080" y="609588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8220240" y="5638680"/>
            <a:ext cx="60948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8524800" y="5791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8296200" y="6172200"/>
            <a:ext cx="22860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8524800" y="6172200"/>
            <a:ext cx="22860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837252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 flipH="1">
            <a:off x="7991640" y="5334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7851240" y="5334120"/>
            <a:ext cx="4917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8603640" y="5181480"/>
            <a:ext cx="53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6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B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3276720" y="54864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3276720" y="58672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3276720" y="601992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flipH="1">
            <a:off x="3352680" y="6172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3352680" y="61722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3352680" y="655308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 flipV="1">
            <a:off x="4648320" y="3200040"/>
            <a:ext cx="0" cy="3352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4648320" y="320040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5105520" y="35053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7317360" y="571500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R-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5257800" y="297180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X-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086600" y="297180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X-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5486400" y="685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4952880" y="457200"/>
            <a:ext cx="533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4425120" y="541440"/>
            <a:ext cx="56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ften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380880" y="1523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80880" y="1676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838080" y="1600200"/>
            <a:ext cx="182520" cy="182520"/>
            <a:chOff x="838080" y="1600200"/>
            <a:chExt cx="182520" cy="182520"/>
          </a:xfrm>
        </p:grpSpPr>
        <p:sp>
          <p:nvSpPr>
            <p:cNvPr id="850" name=""/>
            <p:cNvSpPr/>
            <p:nvPr/>
          </p:nvSpPr>
          <p:spPr>
            <a:xfrm>
              <a:off x="838080" y="160020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 rot="5400000">
              <a:off x="872280" y="162648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990720" y="1676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535680" y="14479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6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1600200" y="6172200"/>
            <a:ext cx="15228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1676520" y="6248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1905120" y="6172200"/>
            <a:ext cx="759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1981080" y="62485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 flipV="1">
            <a:off x="2057400" y="5791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1600200" y="4114800"/>
            <a:ext cx="15228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1676520" y="4191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1905120" y="4114800"/>
            <a:ext cx="759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1981080" y="41911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2057400" y="3733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 rot="16200000">
            <a:off x="1600200" y="2971440"/>
            <a:ext cx="15228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1676520" y="3048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1600200" y="320040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 rot="16200000">
            <a:off x="3962520" y="5333760"/>
            <a:ext cx="15228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4038480" y="5410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3962520" y="5562720"/>
            <a:ext cx="15228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4038480" y="56386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 flipH="1">
            <a:off x="3581280" y="5715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 flipV="1">
            <a:off x="3581280" y="5486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1676520" y="32767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 flipH="1">
            <a:off x="1294920" y="33526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1295280" y="312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 rot="16200000">
            <a:off x="456840" y="1981080"/>
            <a:ext cx="15264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 flipV="1">
            <a:off x="533520" y="19047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457200" y="1828800"/>
            <a:ext cx="152280" cy="1522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609480" y="19051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990720" y="1905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 rot="16200000">
            <a:off x="533520" y="3962160"/>
            <a:ext cx="15228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 flipV="1">
            <a:off x="609480" y="38858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533520" y="3809880"/>
            <a:ext cx="152280" cy="1526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 rot="16200000">
            <a:off x="152280" y="304200"/>
            <a:ext cx="152280" cy="15264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 flipV="1">
            <a:off x="228600" y="2282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152280" y="152280"/>
            <a:ext cx="152640" cy="1526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 rot="16200000">
            <a:off x="8001000" y="5257440"/>
            <a:ext cx="15228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 flipV="1">
            <a:off x="8077320" y="5181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001000" y="5105520"/>
            <a:ext cx="152280" cy="1522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8580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06668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304920" y="228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 flipV="1">
            <a:off x="609480" y="228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 flipV="1">
            <a:off x="8534520" y="5181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8153280" y="5181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1981080" y="59436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1981080" y="38862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3657600" y="5562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1219320" y="32004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914400" y="38098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38080" y="18288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152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8381880" y="50292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7391520" y="6400800"/>
            <a:ext cx="15228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7467480" y="6477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7696080" y="6400800"/>
            <a:ext cx="76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7772400" y="64771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 flipV="1">
            <a:off x="7848720" y="60955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7772400" y="61722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 rot="16200000">
            <a:off x="6477120" y="1904760"/>
            <a:ext cx="15228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553080" y="1981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6477120" y="220968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6553080" y="2286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 flipH="1">
            <a:off x="60958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6172200" y="22096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 flipV="1">
            <a:off x="4800600" y="14479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4800600" y="14479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495288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 rot="16200000">
            <a:off x="1295280" y="3656880"/>
            <a:ext cx="152280" cy="15264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137160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295280" y="3962520"/>
            <a:ext cx="15264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 rot="16200000">
            <a:off x="1295280" y="5714280"/>
            <a:ext cx="152280" cy="15264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 flipV="1">
            <a:off x="1371600" y="5562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1295280" y="5486400"/>
            <a:ext cx="15264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137160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 flipV="1">
            <a:off x="1371600" y="5257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1371600" y="5257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1371600" y="4267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1523880" y="42670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1447920" y="4724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 rot="16200000">
            <a:off x="5334120" y="2514240"/>
            <a:ext cx="15228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 flipV="1">
            <a:off x="5410080" y="2361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334120" y="228600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5410080" y="22096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 flipH="1">
            <a:off x="4800240" y="2209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 rot="16200000">
            <a:off x="6400800" y="2514240"/>
            <a:ext cx="15228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47712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6400800" y="2819520"/>
            <a:ext cx="15228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 flipV="1">
            <a:off x="6477120" y="2895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4952880" y="20574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6400800" y="28954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2514240" y="5257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 flipV="1">
            <a:off x="2514600" y="34290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51460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2362320" y="3429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2895480" y="3352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2743200" y="3733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 flipV="1">
            <a:off x="3048120" y="3428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 flipH="1">
            <a:off x="2895480" y="34290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2895480" y="3581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2971800" y="32004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 flipH="1">
            <a:off x="3200040" y="3733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 flipV="1">
            <a:off x="3200400" y="3428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320040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3124080" y="3581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2514600" y="4419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304812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2895480" y="42670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3048120" y="49528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3048120" y="5791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327672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3429000" y="41148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895480" y="54864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 flipV="1">
            <a:off x="685800" y="533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 flipV="1">
            <a:off x="1371600" y="21333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 flipV="1">
            <a:off x="1219320" y="41907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 flipV="1">
            <a:off x="8610480" y="5486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 flipV="1">
            <a:off x="3581280" y="3733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3809880" y="3581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 flipH="1">
            <a:off x="3809520" y="35812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3812400" y="3657600"/>
            <a:ext cx="4917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 rot="16200000">
            <a:off x="3962520" y="3504960"/>
            <a:ext cx="15228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 flipV="1">
            <a:off x="4038480" y="3428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3962520" y="3352680"/>
            <a:ext cx="152280" cy="1526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3733920" y="34290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3733920" y="3429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3657600" y="3276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 rot="16200000">
            <a:off x="3504960" y="6095880"/>
            <a:ext cx="15264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3581280" y="6172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3505320" y="632448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3581280" y="6400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 flipH="1">
            <a:off x="3047760" y="6477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2895480" y="60199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 flipV="1">
            <a:off x="914400" y="13712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 flipH="1">
            <a:off x="685800" y="1371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 flipV="1">
            <a:off x="1219320" y="1371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14300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685800" y="12193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 flipH="1">
            <a:off x="1142640" y="5410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 flipH="1">
            <a:off x="1218960" y="403848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 flipV="1">
            <a:off x="1219320" y="35049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3T05:59:34Z</dcterms:created>
  <dc:creator>Travis</dc:creator>
  <dc:description/>
  <dc:language>en-US</dc:language>
  <cp:lastModifiedBy>Travis</cp:lastModifiedBy>
  <dcterms:modified xsi:type="dcterms:W3CDTF">2010-04-01T00:43:44Z</dcterms:modified>
  <cp:revision>24</cp:revision>
  <dc:subject/>
  <dc:title>Slide 1</dc:title>
</cp:coreProperties>
</file>